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2720333-9D59-47CC-9B36-349F115F203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E019F64C-07F8-4679-AFED-DE9CB3EAB66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ED94ABE4-DCB1-4C00-B32C-F4EC10A1E33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6E6789BC-F506-4466-BFB3-19005FC6BAD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57D446CF-4A5E-46A6-9E13-5D911662036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88940D-77BC-4BC6-A0A1-0DA2C37DC9C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0094A825-BF5D-4488-96B3-8FA0F5A968A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035555BA-3675-40C1-9744-D0EC22096AD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A57768E4-5C9B-40A2-871E-B423F51D986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E47777B-ADE2-4D5A-9C2C-4DDEBED2604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DEC2339-784B-46A5-AAC9-66BEEBBD28F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540BA3C-FD5F-497C-99D5-7DDADF4B836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C5160C-ED99-4CB4-9B1C-82CD83E10A8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897C77C-D5A6-4EC0-82B4-6568942B495C}"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5F241B0-577E-40D0-AFDA-D4250D1E29AC}"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A075A03-884F-4A1E-B566-BDDAC962EEEB}"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149904A-978F-4C1D-BF35-6D4DBE69D77F}"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5ADD1B-0B28-47DE-843A-C9699643CC82}"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9CCD34-9935-44D5-A6F5-944800073EBF}"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50A3042-A434-48A3-BC98-9AEE27611308}"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9B41EC-B13A-45EC-B3E6-A5EFE3F9141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938661-0453-4AFA-B5CB-BDFD1DC5C2B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F40D930-5A53-410C-AD43-92158AE0A58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D7FCF2-41FE-41AD-BA0C-37A958A4E04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F00B0F8-C14C-4B30-B5C0-269B96A79AA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2AE6A5D-2254-4E90-9431-7615725270D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D014A78-A55F-49FB-9FDB-0ABC536CB3F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2A8BB4-1CF3-44C6-918E-768B00336D3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413FA7-C07F-48E3-9C7E-6519BFE4CB2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70A66E6-2BB8-4678-BA30-29BCF328D37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7E8909-379E-4EF3-AC11-9ACEF9467C6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065045-6D9D-4BDC-9190-A315848E44B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E6DD22-0FB2-4124-8043-49BFB0B8B68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EA36B67-686A-4995-A89A-5E31BC48180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D5F004E-E15A-465D-A186-26B817B000B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E794581-EB29-4A3A-BA8F-AF3D05C302F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C1CADD4-9051-44F7-A9A5-82FF559F979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AC2A62-37A6-47E7-92D3-74C4DF07EC8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DA8DEED-408E-45B2-AA06-DFE4D1681DA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81ADC0B-E3D8-473B-85AB-872BDD450FD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14E01A-9070-4A8B-8F9D-5E6A7275388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ADC6787-3259-470F-8D3D-6D0290E7219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69776F-EDF6-4652-A9D5-7480FCEEB6B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0C11680-7152-4907-BCC4-078DCE9B28B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078EED-78A4-4FAA-AC07-A88DEF3C9C8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3F067F2-EE93-4DF2-BC2D-749264F11EEA}"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C1FCC6-3CCD-4F8A-B8C0-EDB21BD2A53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C3E5711-EC09-4A2C-9F55-B57E43EB417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EDCE9FD-A4C8-409D-8F89-75AA778BA4A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D35F8E-2437-4A07-A6BD-1BC4759AF310}"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C3DEEB44-7C30-4B5D-9549-66D05B86D688}"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056EB8-03F0-4E2F-8737-A964CC56C17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CDA413-8F2A-4F2B-8EA7-ACE966781673}"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B3BED7-5A08-43C1-A707-BB5EC530E0E8}"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C16BEB-3AD1-4CAF-87F8-3008C7CF6A1A}"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22AF68B-92FC-46EB-BB9A-24F9CD563357}"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BAD192-7D7F-432B-99C7-5BAC23A04B87}"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E59D3D-7D3A-4E42-9B23-D89DDC37B016}"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A002A45-48D9-428B-9A67-01478955B26F}"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DA40F6-C48D-41F4-96EA-DEC0DC27C0F2}"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79F1C725-9354-4383-A6CE-65074A12F520}"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EB360AA-55D1-4E40-9D50-BAF899F43FDF}"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9D9AA26-7B15-49CD-84C0-F597A6D70AAB}"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0E44BE-A402-4858-98C0-DA0C7737529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739FBA-BDBA-45D3-BD83-E96DDE65D7F1}"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A98C7ED-ED6F-4748-89E4-AC7113535BAB}"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72AAA6-4A15-4CEF-92D7-38C3BC0DBAF2}"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6D3556-70F4-4194-9FB8-8A34F680CAE9}"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B66B012-9D9B-494B-AE46-1BFBFECBCEB4}"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723C96-F5AE-40A3-A209-3731EC4FE18B}"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BF9759-4662-4AC0-9780-D53E387823E9}"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BE366CEA-D2E1-4324-95D4-2700AA67D0A7}"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D3C3599-3B57-491B-96E1-1A94D16BD328}"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8018D5-B6FA-494B-8C84-9B64F23A418D}"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25CD1B-1AA1-4B0E-BFEC-8B1ED238DC5F}"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91A258-611D-4978-9BED-A5F48955A607}"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7665CB-49AC-4A0E-9B52-D0BF9F6E9611}"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4A4852-496B-44B0-ABAD-0321E85D1248}"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09CAB5-C31C-4044-A430-100991DBCCFF}"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EA7A532-2CCB-4A3C-845D-18F5E7189F92}"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44CD3B6-8580-4B52-984B-81E353FAEEA1}"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E9CCBC-22BA-4561-9517-0B37C94FEDFE}"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90754E-93C9-4E07-B7A2-D280B91817D3}"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C1C36BE-7D20-4F6E-853A-FCD8EC961D61}"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5A69DA-F9C3-4540-AACA-2BF231B32234}"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85AC621-FC89-4B7A-9B55-46BB07EE4BB6}"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1FE79F1-921D-4342-BCCD-AAE994DB7382}"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17D43B5-291F-48A3-9AF8-7CD7D0DE21F3}"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BD6E72B-D5AB-4FA0-8E03-EFEC63D647A6}"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18E986-D76F-4C96-8767-C885A8B8606C}"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49471B6-4BB2-4CD6-AB0B-9FD550066788}"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815AC1-89DC-4F2F-9A51-5774F71D037F}"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D6E6D1-C476-4A89-A932-142201446A74}"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697940-CF49-46C1-9F7F-80E6B4AB0A05}"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62B778-1F03-46CB-ABCF-2473634CB36B}"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57C45A-869D-412C-B4D7-29119FFF8BE7}"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0DD804-18EE-40B3-8DD7-F236C8A741FF}"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7444031-8C6E-4D65-AC11-B2D2E60A0D11}"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69169C-5B4A-43A7-895F-12CF65B7ABA1}"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EE8348-1F8F-4DB9-BB8F-B21C1CD26C4E}"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0EEA9C5-E11C-4CA5-B3A0-B25156B987D0}"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DFD9C7-4AED-40D6-8691-6BF99D50B5F3}"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E25277C-0334-4356-ABC4-442325F7C054}"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5E1611-2DE1-417D-9CAD-C3367B65D48F}"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B4FD5F3-F5EB-4B9C-937A-031802CF4FFD}"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915A6E-A719-4123-85BA-02DDDD5128AB}"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DEADF6-B1BB-4CE7-9E04-86BF4F257B83}"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22848FC-CA6F-4583-AA07-19476162826E}"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5C7DE7-6CC3-464B-9F52-353406FB79D8}"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784C4FA-313F-4631-A646-860EF26BFEF9}"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7C3952-4150-484F-9860-89D618CCFA9B}"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D198B19-4DFD-4659-B367-893FA503435C}"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1E20E1A-E688-4D5E-8D87-CE84434FB2C1}"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AF0ED4-F199-4C8E-92D0-ECAB54D67754}"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F2D70FF-D1AF-4762-8DA3-3DBAFED10C54}"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9074F9-9EFD-4B03-B457-DD5FF93D956F}"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346DA8B-CAA4-490F-B391-A07B65F004B9}"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